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211-97E4-4607-86EA-67CFB46D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106-9E32-425D-8149-A137C68E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653-53F1-46F5-8ABA-81097C2A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D24-EA1C-4460-A346-1E0A5921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33E-7C97-4388-9389-DBD73EA2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A10-E885-4B08-B5C2-5EA52FC5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1603-3461-452F-8D30-87FC0B90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1CD-8B07-4191-B9B8-E5EB7627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499-4216-43F3-8256-0073D463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A37-1349-4DE1-ACA3-BB4CD12F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CFF-2119-4245-8856-D8D1789B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284-E38C-48AE-A57E-11222BC6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0713-CBA3-4DE8-B0E7-7EBE40A73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sh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1080" y="2362320"/>
            <a:ext cx="480060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All About Me</a:t>
            </a:r>
            <a:endParaRPr b="0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9080" y="1523880"/>
            <a:ext cx="9163080" cy="59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mazing friends and we have an awesome time every time we ar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riends are Halie, Alex, Alyssa, Briana, Brooke, Haley, and Steph. But those are just a few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826200">
            <a:off x="6019560" y="3809880"/>
            <a:ext cx="2828880" cy="288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20468400">
            <a:off x="1676520" y="4114800"/>
            <a:ext cx="266688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025720"/>
            <a:ext cx="8686800" cy="323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58000" y="4114800"/>
            <a:ext cx="2058840" cy="2743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5638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Nuff Sai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According To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ife is AMAZING!! I have an awesome family and great friends. I am interested in basketball, soccer, and volleyball. I also run. I’m INLOVE with my lif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1598400">
            <a:off x="6135480" y="3565080"/>
            <a:ext cx="222228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21:04Z</dcterms:created>
  <dc:creator>CGB</dc:creator>
  <dc:description/>
  <dc:language>en-US</dc:language>
  <cp:lastModifiedBy>CGB</cp:lastModifiedBy>
  <dcterms:modified xsi:type="dcterms:W3CDTF">2008-06-09T13:51:00Z</dcterms:modified>
  <cp:revision>5</cp:revision>
  <dc:subject/>
  <dc:title>Slide 1</dc:title>
</cp:coreProperties>
</file>